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A7A-B882-430D-8A45-17586E0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E4D-B0D3-403B-BE47-9DF138C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AFC-36D5-4F2D-BC74-B6E18108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DFD-71CE-41D2-9E5A-F46EA1B9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9F0-F19B-4141-B484-F824916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8E7-BCC7-4D47-BF92-E967371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7D8-6E32-432A-9D14-7FF6F6F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D0A-0EFC-4D9F-A048-3D708A5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660-577A-409F-89D8-A7DF0CEB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998-118A-46C0-8630-E51653C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689-F8C9-4DDE-9A13-748514D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A53-3E1D-48F0-A9B1-6F2F60D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71A-56C0-4BD1-853A-EB31769F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76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Papyrus"/>
              </a:rPr>
              <a:t>Father in Heaven how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6250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4520" y="4881600"/>
            <a:ext cx="9042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Father in Heaven, How we Love You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We lift Your name in all the eart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May Your Kingdom be established in our prai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As Your people declare Your mighty works.</a:t>
            </a:r>
            <a:r>
              <a:rPr b="1" lang="pl-PL" sz="3300" spc="-1" strike="noStrike">
                <a:solidFill>
                  <a:srgbClr val="ff0000"/>
                </a:solidFill>
                <a:latin typeface="Papyru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6250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60" y="4753080"/>
            <a:ext cx="735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Blessed be the Lord God Almighty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Who was  and is and is to come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Blessed be the Lord God Almighty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Who reigns forever more.</a:t>
            </a:r>
            <a:r>
              <a:rPr b="1" lang="pl-PL" sz="3300" spc="-1" strike="noStrike">
                <a:solidFill>
                  <a:srgbClr val="ff0000"/>
                </a:solidFill>
                <a:latin typeface="Papyru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6250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4520" y="4881600"/>
            <a:ext cx="9042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Father in Heaven, How we Love You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We lift Your name in all the eart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May Your Kingdom be established in our prai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Papyrus"/>
              </a:rPr>
              <a:t>As Your people declare Your mighty works.</a:t>
            </a:r>
            <a:r>
              <a:rPr b="1" lang="pl-PL" sz="3300" spc="-1" strike="noStrike">
                <a:solidFill>
                  <a:srgbClr val="ff0000"/>
                </a:solidFill>
                <a:latin typeface="Papyru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6250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60" y="4753080"/>
            <a:ext cx="735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Blessed be the Lord God Almighty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Who was  and is and is to come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Blessed be the Lord God Almighty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Papyrus"/>
              </a:rPr>
              <a:t>Who reigns forever more.</a:t>
            </a:r>
            <a:r>
              <a:rPr b="1" lang="pl-PL" sz="3300" spc="-1" strike="noStrike">
                <a:solidFill>
                  <a:srgbClr val="ff0000"/>
                </a:solidFill>
                <a:latin typeface="Papyru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37320" y="3325680"/>
            <a:ext cx="8207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empus Sans ITC"/>
              </a:rPr>
              <a:t>Blessed be the Lord God Almighty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empus Sans ITC"/>
              </a:rPr>
              <a:t>Who was  and is and is to com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empus Sans ITC"/>
              </a:rPr>
              <a:t>Blessed be the Lord God Almighty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Tempus Sans ITC"/>
              </a:rPr>
              <a:t>[:</a:t>
            </a:r>
            <a:r>
              <a:rPr b="1" lang="en-US" sz="3700" spc="-1" strike="noStrike">
                <a:solidFill>
                  <a:srgbClr val="ffff00"/>
                </a:solidFill>
                <a:latin typeface="Tempus Sans ITC"/>
              </a:rPr>
              <a:t>Who reigns forever more.</a:t>
            </a:r>
            <a:r>
              <a:rPr b="1" lang="pl-PL" sz="3700" spc="-1" strike="noStrike">
                <a:solidFill>
                  <a:srgbClr val="ffff00"/>
                </a:solidFill>
                <a:latin typeface="Tempus Sans ITC"/>
              </a:rPr>
              <a:t>:]</a:t>
            </a:r>
            <a:r>
              <a:rPr b="1" lang="pl-PL" sz="4100" spc="-1" strike="noStrike">
                <a:solidFill>
                  <a:srgbClr val="ffff00"/>
                </a:solidFill>
                <a:latin typeface="Tempus Sans ITC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47:53Z</dcterms:created>
  <dc:creator>TrifonTrifonow</dc:creator>
  <dc:description/>
  <dc:language>en-US</dc:language>
  <cp:lastModifiedBy>TrifonTrifonow</cp:lastModifiedBy>
  <dcterms:modified xsi:type="dcterms:W3CDTF">2005-12-28T05:48:15Z</dcterms:modified>
  <cp:revision>1</cp:revision>
  <dc:subject/>
  <dc:title>Slide 1</dc:title>
</cp:coreProperties>
</file>